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929-2043-4173-80DE-C043BFC2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37D-6316-4E24-ACA2-817734FA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EC90-9E44-4654-B1D3-BF21EDE3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3D9B-FB03-4BA2-A698-E460DE01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77D3-E12B-46E1-ADA3-67A2863F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2BA5-6B0E-4E9E-A6DC-A9674D26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DC8E-43DF-4765-B607-AF1575A9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B49F-69EB-4445-81C9-080E0212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312B-C73E-4E66-A8B7-2EFBAB82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9E4C-F0BB-4177-8552-908D8F1D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9C24-5842-4FC7-B666-3EA7B6F5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72E-0EEA-40F3-AEC9-EEAC5FC9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59B3-B9A0-476D-B13E-67FABA66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9B2A-279D-4699-B0D8-8D9B8A84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102D-4405-49FE-9893-FF288947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6B43-744E-4E58-9522-E9C4BDA4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4B80-96F1-4F2C-83D1-8E2E8975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CC3-A915-4F61-9B0F-792B8DCA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726-0189-46B2-9772-2AD9EF52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2DE-D05E-40CA-A2ED-1FF34251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46C-E004-493C-A201-D3D5351E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091-CECB-4090-8837-C0F268AF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C08-6EBC-44AE-986B-AAF93017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C94-0128-4716-8129-114637DC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1e8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F01B-C964-442A-9D8D-91487B678F01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d1e8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d1e8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1e8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d1e8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8961-4FCA-47C9-BDC8-46A3278FFC9C}" type="slidenum">
              <a:rPr b="0" lang="ro-RO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00000" y="98100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Diagrama K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(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Know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Wonder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Learn</a:t>
            </a:r>
            <a:r>
              <a:rPr b="1" i="1" lang="ro-RO" sz="4000" spc="-1" strike="noStrike">
                <a:solidFill>
                  <a:srgbClr val="ff0000"/>
                </a:solidFill>
                <a:latin typeface="Arial Black"/>
              </a:rPr>
              <a:t>)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4221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Învăţare prin colaborare o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wik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2273400"/>
          <a:ext cx="7772400" cy="41083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69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te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ki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ite utilizatorilor 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 îşi deschidă un co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şi apoi să posteze comentarii pe anumite teme sau să propună alte teme celorlaţi utilizato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ostez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 wiki materiale realizate de mine gen o prezentare power point, pentru a putea fi vizualizată mult mai facil de catre colegii m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loborez mai bine cu colegii de grupa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î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 realizarea unui material com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ma ajuta pe mine ca si profesor in facilitatea transmiterii unor informatii, elevilor cu dizabilitati psihi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laborez on-line cu colegii de grup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 interactiv şi mult mai facil decâ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miterea informatiilor pe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b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7240" y="226692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î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 postez parerea legat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e o anumit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roblem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e b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postez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ver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materiale realizate de mine pe b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pot sa utilizez mai bine un blog pentru activitatea didactic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sa imi fac propiul meu blo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 colaborez cu mai multe persoane într-un timp foarte scu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 blog trebuie sa aiba un continut original, iar acestea sa fie updatate cat mai frecvent pentru ca sa fie interesante pentru cinev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colaborare on-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233856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imbarea mult mai ușoră a părerilor despre o anumită problemă, părere postată pe un site de colabo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postez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ver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materiale realizate de mine pe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poate fi utilizat un site de colaborare in actvitatea dida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ă colaborez cu mai multe persoane într-un timp foarte scu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27:15Z</dcterms:created>
  <dc:creator>Adriana</dc:creator>
  <dc:description/>
  <dc:language>en-US</dc:language>
  <cp:lastModifiedBy>Scoala 2</cp:lastModifiedBy>
  <dcterms:modified xsi:type="dcterms:W3CDTF">2011-01-12T17:38:09Z</dcterms:modified>
  <cp:revision>8</cp:revision>
  <dc:subject/>
  <dc:title>Compuşi hidroxilici</dc:title>
</cp:coreProperties>
</file>